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2EC8-03B1-4283-96E9-A6C9BE785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5039-C726-4C13-88C1-9808D79D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751-30A7-47F7-9584-DF7F17CF6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B49-D51F-494D-AEEB-96CF9DB6B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7427-DA54-44FD-8F96-B3FB062A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6A81-B0DD-4CF5-97A7-AAC3F633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EEBD-B1AF-4D84-A63F-EEFC64D3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2AD-409E-4E1C-8D47-EB395488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3F51-4E22-428C-B559-4C0D5AAD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8E6C-A7AC-46C4-B920-74B99C9A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75C8-8B29-4588-A979-C6C12FD2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204-CEDB-4C1B-BD12-5A692EED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V="1"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>
                  <a:alpha val="8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71604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862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898B-129B-446A-B9EE-51BEC0C74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240680" y="6629400"/>
            <a:ext cx="183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UNCLASSIFIED//FO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iativ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520" y="388620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e Challenge 2009 (EC09) Initiative Br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/Present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Airborne Overhead Cooperative 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295280"/>
            <a:ext cx="0" cy="51055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85800"/>
                <a:tab algn="l" pos="1438200"/>
                <a:tab algn="l" pos="5200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rogram Overview                                                              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44400" y="1341360"/>
            <a:ext cx="360" cy="1085760"/>
            <a:chOff x="644400" y="1341360"/>
            <a:chExt cx="360" cy="1085760"/>
          </a:xfrm>
        </p:grpSpPr>
        <p:sp>
          <p:nvSpPr>
            <p:cNvPr id="51" name=""/>
            <p:cNvSpPr/>
            <p:nvPr/>
          </p:nvSpPr>
          <p:spPr>
            <a:xfrm>
              <a:off x="644400" y="13413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44400" y="14446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4400" y="154764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400" y="165096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4400" y="17524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44400" y="185580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4400" y="195912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4400" y="206208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0" y="3733920"/>
            <a:ext cx="4411800" cy="48708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bjective/Capability Thread Support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384120"/>
            <a:ext cx="68212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itiative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9556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1447920"/>
            <a:ext cx="434340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ganiz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C09 Spons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eneral Description: ex: (Initiative) provides the capability to 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24480" y="4102200"/>
            <a:ext cx="441936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velopment Timelin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ition Pat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C09 Funding Statu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4029120"/>
            <a:ext cx="437832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e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apability Thread(s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pport Capabil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912640" y="1949400"/>
            <a:ext cx="136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24400" y="3733920"/>
            <a:ext cx="4719600" cy="243720"/>
          </a:xfrm>
          <a:prstGeom prst="rect">
            <a:avLst/>
          </a:prstGeom>
          <a:solidFill>
            <a:srgbClr val="000080"/>
          </a:solidFill>
          <a:ln w="0">
            <a:noFill/>
          </a:ln>
          <a:effectLst>
            <a:outerShdw dist="17819" dir="2700000" blurRad="0" rotWithShape="0">
              <a:srgbClr val="cc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861840"/>
                <a:tab algn="l" pos="1206360"/>
                <a:tab algn="l" pos="153504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turity/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6320" y="217080"/>
            <a:ext cx="652320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Insertion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7320" y="1449360"/>
            <a:ext cx="866772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bility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cific EC09 Objective(s) does initiative sup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28760" y="150480"/>
            <a:ext cx="6881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itiative Suppor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90320"/>
            <a:ext cx="838224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s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/desired integration with othe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tprint/Logi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ocation, ground support req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(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pecify which network to be connected 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required RF sup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7480"/>
            <a:ext cx="66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C09 Expect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390680"/>
            <a:ext cx="8382240" cy="103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390680"/>
            <a:ext cx="838224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52280" y="3505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059"/>
          <p:cNvSpPr/>
          <p:nvPr/>
        </p:nvSpPr>
        <p:spPr>
          <a:xfrm>
            <a:off x="176040" y="57240"/>
            <a:ext cx="228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PIRE CHALLENGE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3T17:56:32Z</dcterms:created>
  <dc:creator>william.poppert</dc:creator>
  <dc:description/>
  <dc:language>en-US</dc:language>
  <cp:lastModifiedBy>john.kittle</cp:lastModifiedBy>
  <dcterms:modified xsi:type="dcterms:W3CDTF">2008-04-25T17:40:07Z</dcterms:modified>
  <cp:revision>12</cp:revision>
  <dc:subject/>
  <dc:title>Slide 1</dc:title>
</cp:coreProperties>
</file>